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378C-0A16-488D-A499-884A21240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CCFD-E251-47D1-A575-5B62DBE7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AF68-742E-480A-9942-A64766870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14B6-A6C1-489A-BA56-FE908C48B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D52D-AFE0-47CE-B535-3C05287F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200A-0440-4EB0-B6E0-E63D6CAF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5C2D-195E-4DF3-BF7C-7F767119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FCAF-DDB3-48CA-AA8D-5CCE54D4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9EE7-B24D-4BB3-8883-4D48180E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9FB2-B5D2-4520-BDDF-F6064E2B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C7AB-CB19-4D56-BA81-5131EDD2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BAF2-DF2E-4591-B80E-51D08D4A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0741-A037-477E-974E-A8D27BD51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4038480" cy="3673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4238640"/>
            <a:ext cx="343224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1097"/>
                </a:solidFill>
                <a:latin typeface="Arial"/>
              </a:rPr>
              <a:t>July 11-13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51097"/>
                </a:solidFill>
                <a:latin typeface="Arial"/>
              </a:rPr>
              <a:t>National Evolutionary Synthesis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51097"/>
                </a:solidFill>
                <a:latin typeface="Arial"/>
              </a:rPr>
              <a:t>Durham, North Carolina, U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51097"/>
                </a:solidFill>
                <a:latin typeface="Arial"/>
              </a:rPr>
              <a:t>http://gmod.org/GMOD_Summer_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410080"/>
            <a:ext cx="3886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urse is free but enrollment is limited.  To apply please submit a Statement of Interest, available from the GMOD web sit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51612"/>
                </a:solidFill>
                <a:latin typeface="Arial"/>
              </a:rPr>
              <a:t>Applications will be reviewed starting on April 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228600"/>
            <a:ext cx="0" cy="6400800"/>
          </a:xfrm>
          <a:prstGeom prst="line">
            <a:avLst/>
          </a:prstGeom>
          <a:ln w="28440">
            <a:solidFill>
              <a:srgbClr val="c2ca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800600" y="1495440"/>
          <a:ext cx="4038480" cy="4600440"/>
        </p:xfrm>
        <a:graphic>
          <a:graphicData uri="http://schemas.openxmlformats.org/drawingml/2006/table">
            <a:tbl>
              <a:tblPr/>
              <a:tblGrid>
                <a:gridCol w="228600"/>
                <a:gridCol w="609480"/>
                <a:gridCol w="1905120"/>
                <a:gridCol w="1295280"/>
              </a:tblGrid>
              <a:tr h="31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c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c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tion Tr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dc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 Tr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580"/>
                    </a:solidFill>
                  </a:tcPr>
                </a:tc>
              </a:tr>
              <a:tr h="41832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-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MOD Overvi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tt Cain, Dave Cle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s on Satur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d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do: The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ve Cle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MOD’s database schem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do: Pract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tt C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rowse 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tt C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ic Genome Brows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:30-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rowse 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tt C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-12: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ll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 Le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ome annotation edi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df"/>
                    </a:solidFill>
                  </a:tcPr>
                </a:tc>
              </a:tr>
              <a:tr h="536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30-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b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a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Fag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ative map view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MOD Over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tt Cain and Dave C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4ac"/>
                    </a:solidFill>
                  </a:tcPr>
                </a:tc>
              </a:tr>
              <a:tr h="520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5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-12: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cc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 Annotation Serv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tt C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r GMOD components all in one package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e3b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:30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5cc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apup and Resour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tt Cain and Dave Cle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6e3b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4724280" y="6156360"/>
            <a:ext cx="411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MOD is a set of interoperable open source software tools for visualizing, managing and annotating genomic data. If you need to manage genomic data, consider attending this cour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228600"/>
            <a:ext cx="4114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irst annual GMOD Summer School is a 2 1/2 day hands-on workshop aimed at teaching new GMOD users how to get up and running with popular GMOD components. There will also be a concurrent 1 day session for principal investigators and decision makers that will give you a feel for what GMOD can do and what level of resources are needed to get a GMOD installation up and runn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47280" y="1212840"/>
            <a:ext cx="164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ntative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18:45:34Z</dcterms:created>
  <dc:creator>GMOD / NESCent</dc:creator>
  <dc:description/>
  <dc:language>en-US</dc:language>
  <cp:lastModifiedBy>GMOD / NESCent</cp:lastModifiedBy>
  <dcterms:modified xsi:type="dcterms:W3CDTF">2008-04-09T19:51:14Z</dcterms:modified>
  <cp:revision>5</cp:revision>
  <dc:subject/>
  <dc:title>PowerPoint Presentation</dc:title>
</cp:coreProperties>
</file>